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CACD-B35C-47AD-A472-EF93C7CA9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D1B6-7722-4848-8D05-3BE717E02C3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6A60-8060-4245-B3BC-BAEF2A9C45E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1655-F8AA-4CBE-A3AA-BFC101AD44D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9DC7-E34C-47DB-AA31-6074FE971AE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084B-77C2-4010-9632-F1F80366AB0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F706-C310-40A7-93C7-CCD01140D0C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C547-E398-430C-BFCB-283C7160336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95E8-0977-4382-BBCD-2971EA2FB00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AADF-BBF7-4509-AB9D-45A70ADEC15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407C-5263-4F23-AE53-C0B54ACBC9C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E2D5-A9F7-4983-A21E-20AF84CD5D2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C504-59BA-45DB-846A-88AEA0D333A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A787-6904-4222-9A9A-B76C90EE85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65E1-82E3-451D-A7E8-CDF4E8380C4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B804-99A4-4BC3-841C-40190FD2A65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BDDD-D3D6-4894-A741-7892CF0E621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2056-9645-47E2-BF98-74DD914B7F3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4179-BA5E-4974-8734-B437057C0C3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C94E-2FF5-464B-99AA-2CC3D46DB64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0F2B-046E-4307-BE18-AA0A2E2C6D7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3338-EC7D-4501-99CC-3401D8231A4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2AC4-06FC-4747-9076-5D12F38E216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B4FB-2735-4254-B342-4E220B91EB2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EBED-CA94-46D1-9E16-AD010D59187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D3A0-340F-48D3-8DA1-2194F3A3D79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5FE1-481F-4B79-823B-3A52124D361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5162-9583-4FD7-B93E-B34C1BCD07B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A01-6880-44D1-9EA8-BD472793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5E1B-38F2-49EB-9699-6D7848E9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5D3-1390-438E-8E49-86AE858C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66E-3D66-45C8-A8E8-E3E73553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F64E-65A4-459D-B052-331DDE09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939-C1BF-463B-B040-549E6C96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C843-9D81-470B-B42D-F62BB7AE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AE12-89DE-4F00-A084-75009475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E18-B5ED-4680-8429-E4C9B07F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55E8-2614-4804-9B40-18C3C5CF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6235-1181-43AF-81C4-48391363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33B2-83F6-4E38-B077-4AEDAF75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4FCD-717C-43CF-8EE2-82825C89C30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slide" Target="slide3.xml"/><Relationship Id="rId7" Type="http://schemas.openxmlformats.org/officeDocument/2006/relationships/image" Target="../media/image8.png"/><Relationship Id="rId8" Type="http://schemas.openxmlformats.org/officeDocument/2006/relationships/slide" Target="slide4.xml"/><Relationship Id="rId9" Type="http://schemas.openxmlformats.org/officeDocument/2006/relationships/image" Target="../media/image9.png"/><Relationship Id="rId10" Type="http://schemas.openxmlformats.org/officeDocument/2006/relationships/slide" Target="slide5.xml"/><Relationship Id="rId11" Type="http://schemas.openxmlformats.org/officeDocument/2006/relationships/image" Target="../media/image8.png"/><Relationship Id="rId12" Type="http://schemas.openxmlformats.org/officeDocument/2006/relationships/slide" Target="slide6.xml"/><Relationship Id="rId13" Type="http://schemas.openxmlformats.org/officeDocument/2006/relationships/image" Target="../media/image9.png"/><Relationship Id="rId14" Type="http://schemas.openxmlformats.org/officeDocument/2006/relationships/slide" Target="slide7.xml"/><Relationship Id="rId15" Type="http://schemas.openxmlformats.org/officeDocument/2006/relationships/image" Target="../media/image10.png"/><Relationship Id="rId16" Type="http://schemas.openxmlformats.org/officeDocument/2006/relationships/slide" Target="slide11.xml"/><Relationship Id="rId17" Type="http://schemas.openxmlformats.org/officeDocument/2006/relationships/image" Target="../media/image11.png"/><Relationship Id="rId18" Type="http://schemas.openxmlformats.org/officeDocument/2006/relationships/slide" Target="slide10.xml"/><Relationship Id="rId19" Type="http://schemas.openxmlformats.org/officeDocument/2006/relationships/image" Target="../media/image12.png"/><Relationship Id="rId20" Type="http://schemas.openxmlformats.org/officeDocument/2006/relationships/slide" Target="slide9.xml"/><Relationship Id="rId21" Type="http://schemas.openxmlformats.org/officeDocument/2006/relationships/image" Target="../media/image11.png"/><Relationship Id="rId22" Type="http://schemas.openxmlformats.org/officeDocument/2006/relationships/slide" Target="slide8.xml"/><Relationship Id="rId23" Type="http://schemas.openxmlformats.org/officeDocument/2006/relationships/image" Target="../media/image12.png"/><Relationship Id="rId24" Type="http://schemas.openxmlformats.org/officeDocument/2006/relationships/slide" Target="slide12.xml"/><Relationship Id="rId25" Type="http://schemas.openxmlformats.org/officeDocument/2006/relationships/image" Target="../media/image12.png"/><Relationship Id="rId26" Type="http://schemas.openxmlformats.org/officeDocument/2006/relationships/slide" Target="slide17.xml"/><Relationship Id="rId27" Type="http://schemas.openxmlformats.org/officeDocument/2006/relationships/image" Target="../media/image10.png"/><Relationship Id="rId28" Type="http://schemas.openxmlformats.org/officeDocument/2006/relationships/slide" Target="slide16.xml"/><Relationship Id="rId29" Type="http://schemas.openxmlformats.org/officeDocument/2006/relationships/image" Target="../media/image9.png"/><Relationship Id="rId30" Type="http://schemas.openxmlformats.org/officeDocument/2006/relationships/slide" Target="slide15.xml"/><Relationship Id="rId31" Type="http://schemas.openxmlformats.org/officeDocument/2006/relationships/image" Target="../media/image8.png"/><Relationship Id="rId32" Type="http://schemas.openxmlformats.org/officeDocument/2006/relationships/slide" Target="slide14.xml"/><Relationship Id="rId33" Type="http://schemas.openxmlformats.org/officeDocument/2006/relationships/image" Target="../media/image9.png"/><Relationship Id="rId34" Type="http://schemas.openxmlformats.org/officeDocument/2006/relationships/slide" Target="slide13.xml"/><Relationship Id="rId35" Type="http://schemas.openxmlformats.org/officeDocument/2006/relationships/image" Target="../media/image8.png"/><Relationship Id="rId36" Type="http://schemas.openxmlformats.org/officeDocument/2006/relationships/slide" Target="slide22.xml"/><Relationship Id="rId37" Type="http://schemas.openxmlformats.org/officeDocument/2006/relationships/image" Target="../media/image12.png"/><Relationship Id="rId38" Type="http://schemas.openxmlformats.org/officeDocument/2006/relationships/slide" Target="slide21.xml"/><Relationship Id="rId39" Type="http://schemas.openxmlformats.org/officeDocument/2006/relationships/image" Target="../media/image11.png"/><Relationship Id="rId40" Type="http://schemas.openxmlformats.org/officeDocument/2006/relationships/slide" Target="slide20.xml"/><Relationship Id="rId41" Type="http://schemas.openxmlformats.org/officeDocument/2006/relationships/image" Target="../media/image12.png"/><Relationship Id="rId42" Type="http://schemas.openxmlformats.org/officeDocument/2006/relationships/slide" Target="slide19.xml"/><Relationship Id="rId43" Type="http://schemas.openxmlformats.org/officeDocument/2006/relationships/image" Target="../media/image11.png"/><Relationship Id="rId44" Type="http://schemas.openxmlformats.org/officeDocument/2006/relationships/slide" Target="slide18.xml"/><Relationship Id="rId45" Type="http://schemas.openxmlformats.org/officeDocument/2006/relationships/image" Target="../media/image12.png"/><Relationship Id="rId46" Type="http://schemas.openxmlformats.org/officeDocument/2006/relationships/slide" Target="slide27.xml"/><Relationship Id="rId47" Type="http://schemas.openxmlformats.org/officeDocument/2006/relationships/image" Target="../media/image10.png"/><Relationship Id="rId48" Type="http://schemas.openxmlformats.org/officeDocument/2006/relationships/slide" Target="slide26.xml"/><Relationship Id="rId49" Type="http://schemas.openxmlformats.org/officeDocument/2006/relationships/image" Target="../media/image9.png"/><Relationship Id="rId50" Type="http://schemas.openxmlformats.org/officeDocument/2006/relationships/slide" Target="slide25.xml"/><Relationship Id="rId51" Type="http://schemas.openxmlformats.org/officeDocument/2006/relationships/image" Target="../media/image8.png"/><Relationship Id="rId52" Type="http://schemas.openxmlformats.org/officeDocument/2006/relationships/slide" Target="slide24.xml"/><Relationship Id="rId53" Type="http://schemas.openxmlformats.org/officeDocument/2006/relationships/image" Target="../media/image9.png"/><Relationship Id="rId54" Type="http://schemas.openxmlformats.org/officeDocument/2006/relationships/slide" Target="slide23.xml"/><Relationship Id="rId55" Type="http://schemas.openxmlformats.org/officeDocument/2006/relationships/image" Target="../media/image8.png"/><Relationship Id="rId56" Type="http://schemas.openxmlformats.org/officeDocument/2006/relationships/slideLayout" Target="../slideLayouts/slideLayout1.xml"/><Relationship Id="rId5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JeopardyIcon2.png"/>
          <p:cNvPicPr/>
          <p:nvPr/>
        </p:nvPicPr>
        <p:blipFill>
          <a:blip r:embed="rId1"/>
          <a:stretch/>
        </p:blipFill>
        <p:spPr>
          <a:xfrm>
            <a:off x="762120" y="457200"/>
            <a:ext cx="7905600" cy="329724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2" descr=""/>
          <p:cNvPicPr/>
          <p:nvPr/>
        </p:nvPicPr>
        <p:blipFill>
          <a:blip r:embed="rId2"/>
          <a:stretch/>
        </p:blipFill>
        <p:spPr>
          <a:xfrm>
            <a:off x="914400" y="4194000"/>
            <a:ext cx="708984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2 – 3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7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rm water evaporates more_____ because the molecules are moving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Quickly ; fa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2 – 4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8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re the 6 different sources of water on ear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alt water, fresh water, ice caps and glaciers, lakes and rivers, water in the soil and air, ground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2 – 5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8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rate of evaporation (how fast water evaporates) is affected by what 4 fac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mperature, wind, surface area, and humid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3 – 1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9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4"/>
          <p:cNvSpPr/>
          <p:nvPr/>
        </p:nvSpPr>
        <p:spPr>
          <a:xfrm>
            <a:off x="533520" y="1371600"/>
            <a:ext cx="82296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happens to the water vapor up in the atmosphere to make it condense? (Why does condensation happe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ter vapor is mixed with cool air and the vapor condenses into droplets of liqu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3 – 2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9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Box 4"/>
          <p:cNvSpPr/>
          <p:nvPr/>
        </p:nvSpPr>
        <p:spPr>
          <a:xfrm>
            <a:off x="533520" y="1371600"/>
            <a:ext cx="82296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re 4 different types of condens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louds, fog, raindrops, snowflakes, dew, frost, and s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3 – 3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0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 our condensation experiment, where did the water droplets on the outside of the cup come fro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ter vapor around the c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3 – 4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0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Box 4"/>
          <p:cNvSpPr/>
          <p:nvPr/>
        </p:nvSpPr>
        <p:spPr>
          <a:xfrm>
            <a:off x="533520" y="1371600"/>
            <a:ext cx="82296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picture below, which number represents condens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" descr=""/>
          <p:cNvPicPr/>
          <p:nvPr/>
        </p:nvPicPr>
        <p:blipFill>
          <a:blip r:embed="rId3"/>
          <a:stretch/>
        </p:blipFill>
        <p:spPr>
          <a:xfrm>
            <a:off x="4038480" y="3048120"/>
            <a:ext cx="42436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3 – 5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13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ater cycle, which step is condensation (first, second, third, fourth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cond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4 – 1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18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Box 4"/>
          <p:cNvSpPr/>
          <p:nvPr/>
        </p:nvSpPr>
        <p:spPr>
          <a:xfrm>
            <a:off x="533520" y="1371600"/>
            <a:ext cx="82296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ecipitation is wh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ter droplets fall from the atmospher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4 – 2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2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23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it warmer or cooler up in our atmosp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o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ounded Rectangle 5"/>
          <p:cNvGrpSpPr/>
          <p:nvPr/>
        </p:nvGrpSpPr>
        <p:grpSpPr>
          <a:xfrm>
            <a:off x="7089840" y="328680"/>
            <a:ext cx="1882800" cy="909720"/>
            <a:chOff x="7089840" y="328680"/>
            <a:chExt cx="1882800" cy="909720"/>
          </a:xfrm>
        </p:grpSpPr>
        <p:pic>
          <p:nvPicPr>
            <p:cNvPr id="5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7089840" y="328680"/>
              <a:ext cx="188280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199280" y="417600"/>
              <a:ext cx="16653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Calibri"/>
                </a:rPr>
                <a:t>Miscellaneou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Rounded Rectangle 6"/>
          <p:cNvGrpSpPr/>
          <p:nvPr/>
        </p:nvGrpSpPr>
        <p:grpSpPr>
          <a:xfrm>
            <a:off x="158760" y="237960"/>
            <a:ext cx="1822320" cy="1152720"/>
            <a:chOff x="158760" y="237960"/>
            <a:chExt cx="1822320" cy="1152720"/>
          </a:xfrm>
        </p:grpSpPr>
        <p:pic>
          <p:nvPicPr>
            <p:cNvPr id="5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58760" y="237960"/>
              <a:ext cx="18223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64960" y="417600"/>
              <a:ext cx="16034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Heating &amp; Cooling of W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Rounded Rectangle 7"/>
          <p:cNvGrpSpPr/>
          <p:nvPr/>
        </p:nvGrpSpPr>
        <p:grpSpPr>
          <a:xfrm>
            <a:off x="1895400" y="328680"/>
            <a:ext cx="1835280" cy="909720"/>
            <a:chOff x="1895400" y="328680"/>
            <a:chExt cx="1835280" cy="909720"/>
          </a:xfrm>
        </p:grpSpPr>
        <p:pic>
          <p:nvPicPr>
            <p:cNvPr id="5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1895400" y="328680"/>
              <a:ext cx="183528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004840" y="417600"/>
              <a:ext cx="161640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Evapo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Rounded Rectangle 8"/>
          <p:cNvGrpSpPr/>
          <p:nvPr/>
        </p:nvGrpSpPr>
        <p:grpSpPr>
          <a:xfrm>
            <a:off x="3584520" y="328680"/>
            <a:ext cx="1901880" cy="909720"/>
            <a:chOff x="3584520" y="328680"/>
            <a:chExt cx="1901880" cy="909720"/>
          </a:xfrm>
        </p:grpSpPr>
        <p:pic>
          <p:nvPicPr>
            <p:cNvPr id="60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3584520" y="328680"/>
              <a:ext cx="190188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693960" y="417600"/>
              <a:ext cx="16797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nd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Rounded Rectangle 9"/>
          <p:cNvGrpSpPr/>
          <p:nvPr/>
        </p:nvGrpSpPr>
        <p:grpSpPr>
          <a:xfrm>
            <a:off x="5400720" y="328680"/>
            <a:ext cx="1835280" cy="909720"/>
            <a:chOff x="5400720" y="328680"/>
            <a:chExt cx="1835280" cy="909720"/>
          </a:xfrm>
        </p:grpSpPr>
        <p:pic>
          <p:nvPicPr>
            <p:cNvPr id="63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5400720" y="328680"/>
              <a:ext cx="183528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510160" y="417600"/>
              <a:ext cx="16160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recipi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Rounded Rectangle 10"/>
          <p:cNvGrpSpPr/>
          <p:nvPr/>
        </p:nvGrpSpPr>
        <p:grpSpPr>
          <a:xfrm>
            <a:off x="158760" y="1163520"/>
            <a:ext cx="1822320" cy="1214640"/>
            <a:chOff x="158760" y="1163520"/>
            <a:chExt cx="1822320" cy="1214640"/>
          </a:xfrm>
        </p:grpSpPr>
        <p:pic>
          <p:nvPicPr>
            <p:cNvPr id="66" name="Rounded Rectangle 10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58760" y="1163520"/>
              <a:ext cx="18223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8116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Rounded Rectangle 11"/>
          <p:cNvGrpSpPr/>
          <p:nvPr/>
        </p:nvGrpSpPr>
        <p:grpSpPr>
          <a:xfrm>
            <a:off x="158760" y="2309760"/>
            <a:ext cx="1822320" cy="1214640"/>
            <a:chOff x="158760" y="2309760"/>
            <a:chExt cx="1822320" cy="1214640"/>
          </a:xfrm>
        </p:grpSpPr>
        <p:pic>
          <p:nvPicPr>
            <p:cNvPr id="69" name="Rounded Rectangle 11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158760" y="2309760"/>
              <a:ext cx="18223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8116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Rounded Rectangle 12"/>
          <p:cNvGrpSpPr/>
          <p:nvPr/>
        </p:nvGrpSpPr>
        <p:grpSpPr>
          <a:xfrm>
            <a:off x="158760" y="3449520"/>
            <a:ext cx="1822320" cy="1214640"/>
            <a:chOff x="158760" y="3449520"/>
            <a:chExt cx="1822320" cy="1214640"/>
          </a:xfrm>
        </p:grpSpPr>
        <p:pic>
          <p:nvPicPr>
            <p:cNvPr id="72" name="Rounded Rectangle 12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158760" y="3449520"/>
              <a:ext cx="18223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8116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Rounded Rectangle 13"/>
          <p:cNvGrpSpPr/>
          <p:nvPr/>
        </p:nvGrpSpPr>
        <p:grpSpPr>
          <a:xfrm>
            <a:off x="158760" y="4595760"/>
            <a:ext cx="1822320" cy="1214640"/>
            <a:chOff x="158760" y="4595760"/>
            <a:chExt cx="1822320" cy="1214640"/>
          </a:xfrm>
        </p:grpSpPr>
        <p:pic>
          <p:nvPicPr>
            <p:cNvPr id="75" name="Rounded Rectangle 13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158760" y="4595760"/>
              <a:ext cx="18223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8116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Rounded Rectangle 14"/>
          <p:cNvGrpSpPr/>
          <p:nvPr/>
        </p:nvGrpSpPr>
        <p:grpSpPr>
          <a:xfrm>
            <a:off x="158760" y="5735520"/>
            <a:ext cx="1822320" cy="1214640"/>
            <a:chOff x="158760" y="5735520"/>
            <a:chExt cx="1822320" cy="1214640"/>
          </a:xfrm>
        </p:grpSpPr>
        <p:pic>
          <p:nvPicPr>
            <p:cNvPr id="78" name="Rounded Rectangle 14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158760" y="5735520"/>
              <a:ext cx="18223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8116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Rounded Rectangle 15"/>
          <p:cNvGrpSpPr/>
          <p:nvPr/>
        </p:nvGrpSpPr>
        <p:grpSpPr>
          <a:xfrm>
            <a:off x="1908000" y="4595760"/>
            <a:ext cx="1822680" cy="1214640"/>
            <a:chOff x="1908000" y="4595760"/>
            <a:chExt cx="1822680" cy="1214640"/>
          </a:xfrm>
        </p:grpSpPr>
        <p:pic>
          <p:nvPicPr>
            <p:cNvPr id="81" name="Rounded Rectangle 15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1908000" y="459576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03364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Rounded Rectangle 16"/>
          <p:cNvGrpSpPr/>
          <p:nvPr/>
        </p:nvGrpSpPr>
        <p:grpSpPr>
          <a:xfrm>
            <a:off x="1908000" y="3449520"/>
            <a:ext cx="1822680" cy="1214640"/>
            <a:chOff x="1908000" y="3449520"/>
            <a:chExt cx="1822680" cy="1214640"/>
          </a:xfrm>
        </p:grpSpPr>
        <p:pic>
          <p:nvPicPr>
            <p:cNvPr id="84" name="Rounded Rectangle 16" descr="">
              <a:hlinkClick r:id="rId18" action="ppaction://hlinksldjump"/>
            </p:cNvPr>
            <p:cNvPicPr/>
            <p:nvPr/>
          </p:nvPicPr>
          <p:blipFill>
            <a:blip r:embed="rId19"/>
            <a:stretch/>
          </p:blipFill>
          <p:spPr>
            <a:xfrm>
              <a:off x="1908000" y="344952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03364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Rounded Rectangle 17"/>
          <p:cNvGrpSpPr/>
          <p:nvPr/>
        </p:nvGrpSpPr>
        <p:grpSpPr>
          <a:xfrm>
            <a:off x="1908000" y="2309760"/>
            <a:ext cx="1822680" cy="1214640"/>
            <a:chOff x="1908000" y="2309760"/>
            <a:chExt cx="1822680" cy="1214640"/>
          </a:xfrm>
        </p:grpSpPr>
        <p:pic>
          <p:nvPicPr>
            <p:cNvPr id="87" name="Rounded Rectangle 17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1908000" y="230976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03364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Rounded Rectangle 18"/>
          <p:cNvGrpSpPr/>
          <p:nvPr/>
        </p:nvGrpSpPr>
        <p:grpSpPr>
          <a:xfrm>
            <a:off x="1908000" y="1163520"/>
            <a:ext cx="1822680" cy="1214640"/>
            <a:chOff x="1908000" y="1163520"/>
            <a:chExt cx="1822680" cy="1214640"/>
          </a:xfrm>
        </p:grpSpPr>
        <p:pic>
          <p:nvPicPr>
            <p:cNvPr id="90" name="Rounded Rectangle 18" descr="">
              <a:hlinkClick r:id="rId22" action="ppaction://hlinksldjump"/>
            </p:cNvPr>
            <p:cNvPicPr/>
            <p:nvPr/>
          </p:nvPicPr>
          <p:blipFill>
            <a:blip r:embed="rId23"/>
            <a:stretch/>
          </p:blipFill>
          <p:spPr>
            <a:xfrm>
              <a:off x="1908000" y="116352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03364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Rounded Rectangle 19"/>
          <p:cNvGrpSpPr/>
          <p:nvPr/>
        </p:nvGrpSpPr>
        <p:grpSpPr>
          <a:xfrm>
            <a:off x="1908000" y="5735520"/>
            <a:ext cx="1822680" cy="1214640"/>
            <a:chOff x="1908000" y="5735520"/>
            <a:chExt cx="1822680" cy="1214640"/>
          </a:xfrm>
        </p:grpSpPr>
        <p:pic>
          <p:nvPicPr>
            <p:cNvPr id="93" name="Rounded Rectangle 19" descr="">
              <a:hlinkClick r:id="rId24" action="ppaction://hlinksldjump"/>
            </p:cNvPr>
            <p:cNvPicPr/>
            <p:nvPr/>
          </p:nvPicPr>
          <p:blipFill>
            <a:blip r:embed="rId25"/>
            <a:stretch/>
          </p:blipFill>
          <p:spPr>
            <a:xfrm>
              <a:off x="1908000" y="573552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03364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ounded Rectangle 20"/>
          <p:cNvGrpSpPr/>
          <p:nvPr/>
        </p:nvGrpSpPr>
        <p:grpSpPr>
          <a:xfrm>
            <a:off x="3664080" y="5735520"/>
            <a:ext cx="1822320" cy="1214640"/>
            <a:chOff x="3664080" y="5735520"/>
            <a:chExt cx="1822320" cy="1214640"/>
          </a:xfrm>
        </p:grpSpPr>
        <p:pic>
          <p:nvPicPr>
            <p:cNvPr id="96" name="Rounded Rectangle 20" descr="">
              <a:hlinkClick r:id="rId26" action="ppaction://hlinksldjump"/>
            </p:cNvPr>
            <p:cNvPicPr/>
            <p:nvPr/>
          </p:nvPicPr>
          <p:blipFill>
            <a:blip r:embed="rId27"/>
            <a:stretch/>
          </p:blipFill>
          <p:spPr>
            <a:xfrm>
              <a:off x="3664080" y="5735520"/>
              <a:ext cx="18223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786120" y="5843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Rounded Rectangle 21"/>
          <p:cNvGrpSpPr/>
          <p:nvPr/>
        </p:nvGrpSpPr>
        <p:grpSpPr>
          <a:xfrm>
            <a:off x="3664080" y="4595760"/>
            <a:ext cx="1822320" cy="1214640"/>
            <a:chOff x="3664080" y="4595760"/>
            <a:chExt cx="1822320" cy="1214640"/>
          </a:xfrm>
        </p:grpSpPr>
        <p:pic>
          <p:nvPicPr>
            <p:cNvPr id="99" name="Rounded Rectangle 21" descr="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3664080" y="4595760"/>
              <a:ext cx="18223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786120" y="4700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Rounded Rectangle 22"/>
          <p:cNvGrpSpPr/>
          <p:nvPr/>
        </p:nvGrpSpPr>
        <p:grpSpPr>
          <a:xfrm>
            <a:off x="3664080" y="3449520"/>
            <a:ext cx="1822320" cy="1214640"/>
            <a:chOff x="3664080" y="3449520"/>
            <a:chExt cx="1822320" cy="1214640"/>
          </a:xfrm>
        </p:grpSpPr>
        <p:pic>
          <p:nvPicPr>
            <p:cNvPr id="102" name="Rounded Rectangle 22" descr="">
              <a:hlinkClick r:id="rId30" action="ppaction://hlinksldjump"/>
            </p:cNvPr>
            <p:cNvPicPr/>
            <p:nvPr/>
          </p:nvPicPr>
          <p:blipFill>
            <a:blip r:embed="rId31"/>
            <a:stretch/>
          </p:blipFill>
          <p:spPr>
            <a:xfrm>
              <a:off x="3664080" y="3449520"/>
              <a:ext cx="18223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786120" y="3557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Rounded Rectangle 23"/>
          <p:cNvGrpSpPr/>
          <p:nvPr/>
        </p:nvGrpSpPr>
        <p:grpSpPr>
          <a:xfrm>
            <a:off x="3664080" y="2309760"/>
            <a:ext cx="1822320" cy="1214640"/>
            <a:chOff x="3664080" y="2309760"/>
            <a:chExt cx="1822320" cy="1214640"/>
          </a:xfrm>
        </p:grpSpPr>
        <p:pic>
          <p:nvPicPr>
            <p:cNvPr id="105" name="Rounded Rectangle 23" descr="">
              <a:hlinkClick r:id="rId32" action="ppaction://hlinksldjump"/>
            </p:cNvPr>
            <p:cNvPicPr/>
            <p:nvPr/>
          </p:nvPicPr>
          <p:blipFill>
            <a:blip r:embed="rId33"/>
            <a:stretch/>
          </p:blipFill>
          <p:spPr>
            <a:xfrm>
              <a:off x="3664080" y="2309760"/>
              <a:ext cx="18223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86120" y="2414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Rounded Rectangle 24"/>
          <p:cNvGrpSpPr/>
          <p:nvPr/>
        </p:nvGrpSpPr>
        <p:grpSpPr>
          <a:xfrm>
            <a:off x="3664080" y="1163520"/>
            <a:ext cx="1822320" cy="1214640"/>
            <a:chOff x="3664080" y="1163520"/>
            <a:chExt cx="1822320" cy="1214640"/>
          </a:xfrm>
        </p:grpSpPr>
        <p:pic>
          <p:nvPicPr>
            <p:cNvPr id="108" name="Rounded Rectangle 24" descr="">
              <a:hlinkClick r:id="rId34" action="ppaction://hlinksldjump"/>
            </p:cNvPr>
            <p:cNvPicPr/>
            <p:nvPr/>
          </p:nvPicPr>
          <p:blipFill>
            <a:blip r:embed="rId35"/>
            <a:stretch/>
          </p:blipFill>
          <p:spPr>
            <a:xfrm>
              <a:off x="3664080" y="1163520"/>
              <a:ext cx="18223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786120" y="1271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Rounded Rectangle 25"/>
          <p:cNvGrpSpPr/>
          <p:nvPr/>
        </p:nvGrpSpPr>
        <p:grpSpPr>
          <a:xfrm>
            <a:off x="5413320" y="5735520"/>
            <a:ext cx="1822680" cy="1214640"/>
            <a:chOff x="5413320" y="5735520"/>
            <a:chExt cx="1822680" cy="1214640"/>
          </a:xfrm>
        </p:grpSpPr>
        <p:pic>
          <p:nvPicPr>
            <p:cNvPr id="111" name="Rounded Rectangle 25" descr="">
              <a:hlinkClick r:id="rId36" action="ppaction://hlinksldjump"/>
            </p:cNvPr>
            <p:cNvPicPr/>
            <p:nvPr/>
          </p:nvPicPr>
          <p:blipFill>
            <a:blip r:embed="rId37"/>
            <a:stretch/>
          </p:blipFill>
          <p:spPr>
            <a:xfrm>
              <a:off x="5413320" y="573552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53896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Rounded Rectangle 26"/>
          <p:cNvGrpSpPr/>
          <p:nvPr/>
        </p:nvGrpSpPr>
        <p:grpSpPr>
          <a:xfrm>
            <a:off x="5413320" y="4595760"/>
            <a:ext cx="1822680" cy="1214640"/>
            <a:chOff x="5413320" y="4595760"/>
            <a:chExt cx="1822680" cy="1214640"/>
          </a:xfrm>
        </p:grpSpPr>
        <p:pic>
          <p:nvPicPr>
            <p:cNvPr id="114" name="Rounded Rectangle 26" descr="">
              <a:hlinkClick r:id="rId38" action="ppaction://hlinksldjump"/>
            </p:cNvPr>
            <p:cNvPicPr/>
            <p:nvPr/>
          </p:nvPicPr>
          <p:blipFill>
            <a:blip r:embed="rId39"/>
            <a:stretch/>
          </p:blipFill>
          <p:spPr>
            <a:xfrm>
              <a:off x="5413320" y="459576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53896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ounded Rectangle 27"/>
          <p:cNvGrpSpPr/>
          <p:nvPr/>
        </p:nvGrpSpPr>
        <p:grpSpPr>
          <a:xfrm>
            <a:off x="5413320" y="3449520"/>
            <a:ext cx="1822680" cy="1214640"/>
            <a:chOff x="5413320" y="3449520"/>
            <a:chExt cx="1822680" cy="1214640"/>
          </a:xfrm>
        </p:grpSpPr>
        <p:pic>
          <p:nvPicPr>
            <p:cNvPr id="117" name="Rounded Rectangle 27" descr="">
              <a:hlinkClick r:id="rId40" action="ppaction://hlinksldjump"/>
            </p:cNvPr>
            <p:cNvPicPr/>
            <p:nvPr/>
          </p:nvPicPr>
          <p:blipFill>
            <a:blip r:embed="rId41"/>
            <a:stretch/>
          </p:blipFill>
          <p:spPr>
            <a:xfrm>
              <a:off x="5413320" y="344952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53896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Rounded Rectangle 28"/>
          <p:cNvGrpSpPr/>
          <p:nvPr/>
        </p:nvGrpSpPr>
        <p:grpSpPr>
          <a:xfrm>
            <a:off x="5413320" y="2309760"/>
            <a:ext cx="1822680" cy="1214640"/>
            <a:chOff x="5413320" y="2309760"/>
            <a:chExt cx="1822680" cy="1214640"/>
          </a:xfrm>
        </p:grpSpPr>
        <p:pic>
          <p:nvPicPr>
            <p:cNvPr id="120" name="Rounded Rectangle 28" descr="">
              <a:hlinkClick r:id="rId42" action="ppaction://hlinksldjump"/>
            </p:cNvPr>
            <p:cNvPicPr/>
            <p:nvPr/>
          </p:nvPicPr>
          <p:blipFill>
            <a:blip r:embed="rId43"/>
            <a:stretch/>
          </p:blipFill>
          <p:spPr>
            <a:xfrm>
              <a:off x="5413320" y="230976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53896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Rounded Rectangle 29"/>
          <p:cNvGrpSpPr/>
          <p:nvPr/>
        </p:nvGrpSpPr>
        <p:grpSpPr>
          <a:xfrm>
            <a:off x="5413320" y="1163520"/>
            <a:ext cx="1822680" cy="1214640"/>
            <a:chOff x="5413320" y="1163520"/>
            <a:chExt cx="1822680" cy="1214640"/>
          </a:xfrm>
        </p:grpSpPr>
        <p:pic>
          <p:nvPicPr>
            <p:cNvPr id="123" name="Rounded Rectangle 29" descr="">
              <a:hlinkClick r:id="rId44" action="ppaction://hlinksldjump"/>
            </p:cNvPr>
            <p:cNvPicPr/>
            <p:nvPr/>
          </p:nvPicPr>
          <p:blipFill>
            <a:blip r:embed="rId45"/>
            <a:stretch/>
          </p:blipFill>
          <p:spPr>
            <a:xfrm>
              <a:off x="5413320" y="116352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53896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Rounded Rectangle 30"/>
          <p:cNvGrpSpPr/>
          <p:nvPr/>
        </p:nvGrpSpPr>
        <p:grpSpPr>
          <a:xfrm>
            <a:off x="7169040" y="5735520"/>
            <a:ext cx="1822680" cy="1214640"/>
            <a:chOff x="7169040" y="5735520"/>
            <a:chExt cx="1822680" cy="1214640"/>
          </a:xfrm>
        </p:grpSpPr>
        <p:pic>
          <p:nvPicPr>
            <p:cNvPr id="126" name="Rounded Rectangle 30" descr="">
              <a:hlinkClick r:id="rId46" action="ppaction://hlinksldjump"/>
            </p:cNvPr>
            <p:cNvPicPr/>
            <p:nvPr/>
          </p:nvPicPr>
          <p:blipFill>
            <a:blip r:embed="rId47"/>
            <a:stretch/>
          </p:blipFill>
          <p:spPr>
            <a:xfrm>
              <a:off x="7169040" y="573552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29144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Rounded Rectangle 31"/>
          <p:cNvGrpSpPr/>
          <p:nvPr/>
        </p:nvGrpSpPr>
        <p:grpSpPr>
          <a:xfrm>
            <a:off x="7169040" y="4595760"/>
            <a:ext cx="1822680" cy="1214640"/>
            <a:chOff x="7169040" y="4595760"/>
            <a:chExt cx="1822680" cy="1214640"/>
          </a:xfrm>
        </p:grpSpPr>
        <p:pic>
          <p:nvPicPr>
            <p:cNvPr id="129" name="Rounded Rectangle 31" descr="">
              <a:hlinkClick r:id="rId48" action="ppaction://hlinksldjump"/>
            </p:cNvPr>
            <p:cNvPicPr/>
            <p:nvPr/>
          </p:nvPicPr>
          <p:blipFill>
            <a:blip r:embed="rId49"/>
            <a:stretch/>
          </p:blipFill>
          <p:spPr>
            <a:xfrm>
              <a:off x="7169040" y="459576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29144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Rounded Rectangle 32"/>
          <p:cNvGrpSpPr/>
          <p:nvPr/>
        </p:nvGrpSpPr>
        <p:grpSpPr>
          <a:xfrm>
            <a:off x="7169040" y="3449520"/>
            <a:ext cx="1822680" cy="1214640"/>
            <a:chOff x="7169040" y="3449520"/>
            <a:chExt cx="1822680" cy="1214640"/>
          </a:xfrm>
        </p:grpSpPr>
        <p:pic>
          <p:nvPicPr>
            <p:cNvPr id="132" name="Rounded Rectangle 32" descr="">
              <a:hlinkClick r:id="rId50" action="ppaction://hlinksldjump"/>
            </p:cNvPr>
            <p:cNvPicPr/>
            <p:nvPr/>
          </p:nvPicPr>
          <p:blipFill>
            <a:blip r:embed="rId51"/>
            <a:stretch/>
          </p:blipFill>
          <p:spPr>
            <a:xfrm>
              <a:off x="7169040" y="344952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29144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Rounded Rectangle 33"/>
          <p:cNvGrpSpPr/>
          <p:nvPr/>
        </p:nvGrpSpPr>
        <p:grpSpPr>
          <a:xfrm>
            <a:off x="7169040" y="2309760"/>
            <a:ext cx="1822680" cy="1214640"/>
            <a:chOff x="7169040" y="2309760"/>
            <a:chExt cx="1822680" cy="1214640"/>
          </a:xfrm>
        </p:grpSpPr>
        <p:pic>
          <p:nvPicPr>
            <p:cNvPr id="135" name="Rounded Rectangle 33" descr="">
              <a:hlinkClick r:id="rId52" action="ppaction://hlinksldjump"/>
            </p:cNvPr>
            <p:cNvPicPr/>
            <p:nvPr/>
          </p:nvPicPr>
          <p:blipFill>
            <a:blip r:embed="rId53"/>
            <a:stretch/>
          </p:blipFill>
          <p:spPr>
            <a:xfrm>
              <a:off x="7169040" y="230976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29144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Rounded Rectangle 34"/>
          <p:cNvGrpSpPr/>
          <p:nvPr/>
        </p:nvGrpSpPr>
        <p:grpSpPr>
          <a:xfrm>
            <a:off x="7169040" y="1163520"/>
            <a:ext cx="1822680" cy="1214640"/>
            <a:chOff x="7169040" y="1163520"/>
            <a:chExt cx="1822680" cy="1214640"/>
          </a:xfrm>
        </p:grpSpPr>
        <p:pic>
          <p:nvPicPr>
            <p:cNvPr id="138" name="Rounded Rectangle 34" descr="">
              <a:hlinkClick r:id="rId54" action="ppaction://hlinksldjump"/>
            </p:cNvPr>
            <p:cNvPicPr/>
            <p:nvPr/>
          </p:nvPicPr>
          <p:blipFill>
            <a:blip r:embed="rId55"/>
            <a:stretch/>
          </p:blipFill>
          <p:spPr>
            <a:xfrm>
              <a:off x="7169040" y="1163520"/>
              <a:ext cx="182268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29144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4 – 3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28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liquid cloud droplets and tiny ice crystals grow in size and get too big, what happe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e get precipitation; it rains, snows, sleets, or h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4 – 4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33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type of precipitation that we see depends on what fa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mper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4 – 5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38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5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ame all possible types of precipi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ain, snow, sleet, or h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5 – 1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43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oes the amount of water earth has ever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o, because earth has a set amount of water none is added none is taken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5 – 2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48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bla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ter flows_____hill and collects in the ____areas of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own ; low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5 – 3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53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Box 4"/>
          <p:cNvSpPr/>
          <p:nvPr/>
        </p:nvSpPr>
        <p:spPr>
          <a:xfrm>
            <a:off x="914400" y="144792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ow does water cause ero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s water moves downhill, it picks up and carries loose rocks, sand, silt, and c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5 – 4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58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it called when flowing water erodes the outside of a curve and causes a bend in a ri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ver meande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https://lh6.googleusercontent.com/ry4kk2rYQ9TxkxdihqamTc9KIzZ1_ZAy7QohXOGa2gZ1g7ZYnuMsqCI019Rj6VIL8KufbpcXxQov1gEvg1CEs0GLO5zHB2mS7gW3j3UNYkzjsMJ8ouAw2krTuQNorloQOZtN1kC-l9w"/>
          <p:cNvPicPr/>
          <p:nvPr/>
        </p:nvPicPr>
        <p:blipFill>
          <a:blip r:embed="rId2"/>
          <a:stretch/>
        </p:blipFill>
        <p:spPr>
          <a:xfrm>
            <a:off x="5867280" y="2743200"/>
            <a:ext cx="251640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5 – 5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64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y do we call it “the water cycle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Earth has a set amount of water that remains in constant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1 – 1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three states that water can be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lid, liquid, &amp;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43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1 – 2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4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ater is heated up, what happens to the molec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begin to move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1 – 3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5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do we call the gaseous form of 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ter Va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1 – 4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5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temperature, in degrees Celsius, does water boil at? What temperature does it begin to freeze a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oils at 100 degrees Celsius and freezes at 0 degrees Cels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1 – 5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6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be what happens to the energy and the molecules when we lower the temperature of 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nergy is taken away &amp; the molecules begin to slow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2 – 1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6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happens during evapo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iquid water begins to turn from a liquid to a gas (water vap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2 – 2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7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provides the necessary energy on earth for water to evapor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0:43:48Z</dcterms:created>
  <dc:creator>Educational Technology Network</dc:creator>
  <dc:description>www.edtechnetwork.com</dc:description>
  <cp:keywords>Jeopardy Powerpoint Template;Education Technology</cp:keywords>
  <dc:language>en-US</dc:language>
  <cp:lastModifiedBy>Gina Lapila</cp:lastModifiedBy>
  <dcterms:modified xsi:type="dcterms:W3CDTF">2017-07-02T23:51:53Z</dcterms:modified>
  <cp:revision>27</cp:revision>
  <dc:subject>Jeopardy Template</dc:subject>
  <dc:title>POWERPOINT JEOPARDY</dc:title>
</cp:coreProperties>
</file>